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2344A-46D7-4833-BE47-95D76795847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C6C32-28C4-43E0-B414-C18294C21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88E31-C93A-4DE8-A3A9-7694FA47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A0FB6-ED39-4B5E-AD10-3FA39632F4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3C317-D791-41AA-A066-8563FC33D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6856F-B393-40A2-8219-339F81471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A8FBA-5702-4384-B0BF-20803881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64DF2-5A96-457D-A4EB-72C149237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CFA81-BD3D-4996-A6DC-31D850FAE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87414-1234-495B-A772-1F9B5EC31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496EA-649D-4A6F-AC03-0706E4A6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F66CF-1FF9-48B2-8024-4DE5DCDA7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5F31-F577-44A6-9398-0E415B8963B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章  绪   言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妇产科护理学发展简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国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我国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近代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当代妇产科护理发展趋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开展“以家庭为中心的产科护理”的必要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孕妇家庭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医护人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绪   言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宋体"/>
                <a:ea typeface="宋体"/>
              </a:rPr>
              <a:t>当代妇产科护理发展趋势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ac8de"/>
                </a:solidFill>
                <a:latin typeface="宋体"/>
                <a:ea typeface="宋体"/>
              </a:rPr>
              <a:t>开展“以家庭为中心的产科护理”的可行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积极参与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分娩环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医疗技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acdfc"/>
                </a:solidFill>
                <a:latin typeface="宋体"/>
                <a:ea typeface="宋体"/>
              </a:rPr>
              <a:t>早期出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6:49:22Z</dcterms:modified>
  <cp:revision>19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